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4FBE3-82A0-431A-85E9-C0D48D46E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812EF-6987-40D7-8569-A453ED13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B50AE-0456-4B59-BBB9-848B5B324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F9225-EE63-4CF1-98EF-C21C279C3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F3AC-1A93-4A89-9393-8D94F6A61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D826-0421-4DF6-A8C7-71A03B0E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1684-5488-454A-A8CA-4EE0267C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0ED9-F165-4B0A-8951-AE45C4D8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509A-2342-4B2F-8B3A-38089C44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22E6-D606-4680-85D5-400563D0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67D9-9084-4466-AC07-16E4B5ED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732CB-3483-4253-AD46-25561D02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DE03-19C2-43A5-AEAE-AFFAC17B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0B9B-7668-42C4-B16F-6B12EBEE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82CC-D630-4834-B7F4-B7459371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9F92-2AEE-4579-9F6C-F2D43CC99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A5B3-5EB2-47F6-8925-1B2A9451F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EB5F5-9CB4-4BC4-9830-D20FF4ED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C2AEE-F6DE-4B74-9020-79189AB1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72550-9845-49CD-B685-0924B107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844C1-6345-4BFC-925B-D52C8ED6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4854F-BCF2-45C5-B5A6-D936783E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7B6B7-90C4-4EFB-8D86-5D91849E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7314B-899D-4828-A31C-3F0342FC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5023-A036-4E5E-B45E-C9D50F4A062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18D5-7456-4C51-BE30-ADDB0809347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5e"/>
            </a:gs>
            <a:gs pos="100000">
              <a:srgbClr val="ff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Glaring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tion :To look at angrily and suspicio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e Word: gl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lection : 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llable : glar-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onyms: norm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nonym: suspicio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235560" y="4200480"/>
            <a:ext cx="1160640" cy="1484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608800" y="1371600"/>
            <a:ext cx="246852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toryteller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finition: a person who reads and te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e Word : sto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lection: 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nonym: rea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llable: stor.y.tel.l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onym: wri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759280" y="4221000"/>
            <a:ext cx="1816200" cy="1629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764320" y="1909800"/>
            <a:ext cx="180648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f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Borrow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tion: To use something with permi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e Word: R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lection: r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nonym: to 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llable: bor.r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onym: ste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53000" y="2187720"/>
            <a:ext cx="403380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Eager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tion: Exited and nervo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Base Wor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Inflection: 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Synonym: really happ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Syllables: ea.g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Antonym: s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265800" y="3362400"/>
            <a:ext cx="19702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                    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hattere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ition: to talk rapidly and Foolish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se Word: Ch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4</cp:lastModifiedBy>
  <dcterms:modified xsi:type="dcterms:W3CDTF">2008-10-17T21:48:59Z</dcterms:modified>
  <cp:revision>4</cp:revision>
  <dc:subject/>
  <dc:title>PowerPoint Presentation</dc:title>
</cp:coreProperties>
</file>